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319-D069-4D63-BF86-837E016B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510-A980-40A4-A83F-9F4D89FB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32A-DCB6-4176-99D3-5A0687C3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407-F8AE-417E-B97A-B0AA3340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0DE-DD9C-422D-B310-E7808FB6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5ED-9DE2-437E-9763-A7FB13DD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5AB-4252-4050-B6E8-51EF21E0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438-1B96-4632-A45F-4F8335AE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A7F-78DD-4B03-BBCD-FA65D257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B9C-FDB9-4DD2-9BCC-208EA531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45F-E781-460D-BAF5-34AD361E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2F7-7F93-4215-A714-C1AD35E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25F3-168D-4018-AD52-68CF75AB9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Microscopia Óptica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e Campo Próx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19810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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Uma fibra óptica com extremidade cônica revestida com 100nm de alumínio, e com uma abertura de 50nm de diâmetro, é acoplada na sonda de varredura do microscópio de força atômica de con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pt-BR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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Modos de aquisição: transmissão ou reflex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Resolução óptica menor que o comprimento de on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Amostras com propriedades óp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3710" t="0" r="3710" b="2533"/>
          <a:stretch/>
        </p:blipFill>
        <p:spPr>
          <a:xfrm>
            <a:off x="7238880" y="15228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252360" y="62064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Microscopia Óptica 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de Campo Próx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1744560"/>
            <a:ext cx="4648320" cy="442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Microscopia Óptica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e Campo Próx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0464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Microscopia Óptica 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de Campo Próx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4176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Outras Técnicas Microscóp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628640"/>
            <a:ext cx="8497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Tomografia de Raios X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- Em 1972 Goldfrey Houndsfield e Allan Cormack desenvolveram a técnica de tomografia computadorizada - Nobel de medicina em 19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agens NMR / E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SAW (Surface-acustic wave spectrosco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icroscopia SIMS (Espectroscopia de massa de íons secund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luorescência de rai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7:10:02Z</dcterms:created>
  <dc:creator>oem</dc:creator>
  <dc:description/>
  <dc:language>en-US</dc:language>
  <cp:lastModifiedBy>Lab. FísicoQuímica e Microscopia</cp:lastModifiedBy>
  <dcterms:modified xsi:type="dcterms:W3CDTF">2004-11-24T16:04:24Z</dcterms:modified>
  <cp:revision>4</cp:revision>
  <dc:subject/>
  <dc:title>Microscopia Óptica  de Campo Próximo</dc:title>
</cp:coreProperties>
</file>